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4BB-00AA-4727-BB4C-E5BA4DAD0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7019-2454-4874-BB00-110D9165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B07-4F62-4DDB-882B-3B92A4EB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845E-0F44-42D5-9BA5-FAC8500E2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4EFC-73C2-486F-A271-80DFEC95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A277-13CE-45BC-AF8C-95DF4A8D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B76-673F-4338-B3B6-D4AF14165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A3C-20E8-455A-BC9C-B12087F6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FFEB-F07B-4707-89FE-E663F1DE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703B-DB25-4700-8E10-3FAC57C4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4F9-61BA-4155-ABC4-53046F1D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1816-E428-4BA3-AC0A-E2C159F1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9C1-D400-4D08-A027-64B117D4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08B1-E156-4B3F-A5B1-6FD2E58B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1B9-E028-4AA8-9251-C58422BD6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A55-6502-4E9B-BA29-CD14A15B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6D0C-38E8-4450-8F70-157DCD31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8AF-818F-4D36-A150-ED207A69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E61-0EBA-48D8-A9E6-F0CCC1A6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18F-ECE7-4284-B18B-31FB96C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AF3-1199-4856-89ED-E38600DE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9E-4F50-4200-85A6-0026564C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2DA2-3B85-485C-8389-2CBDFB7F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FFD0-4E28-4615-9584-BC31EB36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8450-3CCD-4A2D-BF91-5AC1A120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DABF-B9EE-4FAB-B7F0-635BE8F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7AA-63F3-4841-8E43-373EB1A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221-FE37-4EC5-8977-F49A25A8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4208-90A1-4BE5-AF09-AFDDCD2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93E-2481-40AA-951A-27F3322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A6B-9703-4E38-BD90-E4DF02A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C58D-0237-48CF-B86F-AB7FF39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920-4DE9-44B5-8C48-AB3C2421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87FD-F216-4366-8AB7-659341D2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DDBC-289F-4F91-BFDE-8F34B52B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47FF-38E4-4D1E-ACAF-3AAAB2D5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BCEE-9853-458E-9518-1F592A45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7F19-7998-453C-82A2-F67EF73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EE4A-C60F-4C46-BBB0-DC66085B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8CF0-AA20-489A-A0EC-8473812F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6B1-34CD-40F3-9594-978F703D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7406-9813-487D-96A7-F93B5652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EDC9-57C8-4A50-9DF8-1D2C102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0A07-3792-4DA4-9E10-3931A33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15B0-445B-443B-818E-AC71ED0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D363-E89B-4E24-9D19-9FC60E91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EA8D-B665-4736-BD9D-97AEC8D6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7470-E1B4-46F5-9315-00E0DE6C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908C-2D94-452C-8A71-08C63231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07A6-26F4-402A-8C15-96602B7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DB96-6C41-49EA-8BF9-6248244F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277-104D-4397-8004-2289AED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DDB5-7487-4F07-A970-6046764B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9C34-6A99-419E-BE25-7063DB3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4C12-77C7-47BD-BDDC-88F140EB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FECE-5015-4B4F-8CD0-C6740C9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C66F-8171-40BB-B3C2-21DFBEA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6847-C1C1-4EE0-BE1B-782BD53D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8C0E5-F502-4BA0-9921-217BF5A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FEC4-BE14-42D6-86A0-2268C973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DC4F-1F9B-4F14-9030-34CD7AF3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9F7-8D48-48BA-9E6A-1E63AF4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3F6-79E9-4B92-B855-10D9B4AA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BCE-5757-475B-8628-4FF8F09A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CCD-91B1-4A9E-807F-E369D26B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FDA-E4D2-42D9-94B2-53F0F06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4064-7FE0-4320-880C-9947648B84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31B-9266-45B5-A0D2-F6E17735043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6087-B312-48BD-9302-C9AA82F425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0C5B-C3F0-4C32-9D93-7A5059BC201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7536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le mét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images.jpeg"/>
          <p:cNvPicPr/>
          <p:nvPr/>
        </p:nvPicPr>
        <p:blipFill>
          <a:blip r:embed="rId2"/>
          <a:stretch/>
        </p:blipFill>
        <p:spPr>
          <a:xfrm>
            <a:off x="2133720" y="990720"/>
            <a:ext cx="563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station de mét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images-1.jpeg"/>
          <p:cNvPicPr/>
          <p:nvPr/>
        </p:nvPicPr>
        <p:blipFill>
          <a:blip r:embed="rId2"/>
          <a:stretch/>
        </p:blipFill>
        <p:spPr>
          <a:xfrm>
            <a:off x="2362320" y="1295280"/>
            <a:ext cx="4647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vi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images-2.jpeg"/>
          <p:cNvPicPr/>
          <p:nvPr/>
        </p:nvPicPr>
        <p:blipFill>
          <a:blip r:embed="rId2"/>
          <a:stretch/>
        </p:blipFill>
        <p:spPr>
          <a:xfrm>
            <a:off x="1066680" y="99072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capit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DownloadedFile-1.jpeg"/>
          <p:cNvPicPr/>
          <p:nvPr/>
        </p:nvPicPr>
        <p:blipFill>
          <a:blip r:embed="rId2"/>
          <a:stretch/>
        </p:blipFill>
        <p:spPr>
          <a:xfrm>
            <a:off x="2438280" y="1219320"/>
            <a:ext cx="5334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 la campag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5" descr="images-3.jpeg"/>
          <p:cNvPicPr/>
          <p:nvPr/>
        </p:nvPicPr>
        <p:blipFill>
          <a:blip r:embed="rId2"/>
          <a:stretch/>
        </p:blipFill>
        <p:spPr>
          <a:xfrm>
            <a:off x="1143000" y="144792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une sation de 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" descr="images-4.jpeg"/>
          <p:cNvPicPr/>
          <p:nvPr/>
        </p:nvPicPr>
        <p:blipFill>
          <a:blip r:embed="rId2"/>
          <a:stretch/>
        </p:blipFill>
        <p:spPr>
          <a:xfrm>
            <a:off x="2286000" y="83808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 la mer/ à la p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" descr="mediterranean-beaches.jpg"/>
          <p:cNvPicPr/>
          <p:nvPr/>
        </p:nvPicPr>
        <p:blipFill>
          <a:blip r:embed="rId2"/>
          <a:stretch/>
        </p:blipFill>
        <p:spPr>
          <a:xfrm>
            <a:off x="1628640" y="1206360"/>
            <a:ext cx="52707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acances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914400" y="5410080"/>
            <a:ext cx="64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z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5" descr="images-5.jpeg"/>
          <p:cNvPicPr/>
          <p:nvPr/>
        </p:nvPicPr>
        <p:blipFill>
          <a:blip r:embed="rId2"/>
          <a:stretch/>
        </p:blipFill>
        <p:spPr>
          <a:xfrm>
            <a:off x="1600200" y="838080"/>
            <a:ext cx="5562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2438280" y="5562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eter un billet d’av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http://www.myfingerprintreader.com/wp-content/uploads/2011/09/through-airport-security.jpg"/>
          <p:cNvPicPr/>
          <p:nvPr/>
        </p:nvPicPr>
        <p:blipFill>
          <a:blip r:embed="rId2"/>
          <a:stretch/>
        </p:blipFill>
        <p:spPr>
          <a:xfrm>
            <a:off x="2916360" y="1916280"/>
            <a:ext cx="4476600" cy="28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276720" y="5589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dép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http://contrailscience.com/wp-content/uploads/boeing_b-47b_rocket-assisted_take_off.jpg"/>
          <p:cNvPicPr/>
          <p:nvPr/>
        </p:nvPicPr>
        <p:blipFill>
          <a:blip r:embed="rId2"/>
          <a:stretch/>
        </p:blipFill>
        <p:spPr>
          <a:xfrm>
            <a:off x="2627280" y="1773360"/>
            <a:ext cx="4575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657600" y="54864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rriv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http://farm3.static.flickr.com/2379/2129589191_6006773170.jpg"/>
          <p:cNvPicPr/>
          <p:nvPr/>
        </p:nvPicPr>
        <p:blipFill>
          <a:blip r:embed="rId2"/>
          <a:stretch/>
        </p:blipFill>
        <p:spPr>
          <a:xfrm>
            <a:off x="2484360" y="184464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avio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2627280" y="53737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ou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http://www.johnnyjet.com/images/PicsForNewsletterJuly2005GenevaCarolClearingCustoms.JPG"/>
          <p:cNvPicPr/>
          <p:nvPr/>
        </p:nvPicPr>
        <p:blipFill>
          <a:blip r:embed="rId2"/>
          <a:stretch/>
        </p:blipFill>
        <p:spPr>
          <a:xfrm>
            <a:off x="2987640" y="1521000"/>
            <a:ext cx="508788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2340000" y="573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images-6.jpeg"/>
          <p:cNvPicPr/>
          <p:nvPr/>
        </p:nvPicPr>
        <p:blipFill>
          <a:blip r:embed="rId2"/>
          <a:stretch/>
        </p:blipFill>
        <p:spPr>
          <a:xfrm>
            <a:off x="1295280" y="1601640"/>
            <a:ext cx="68580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2340000" y="573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http://blog.chasenantiques.com/wp-content/uploads/2011/09/tgv-train.jpg"/>
          <p:cNvPicPr/>
          <p:nvPr/>
        </p:nvPicPr>
        <p:blipFill>
          <a:blip r:embed="rId2"/>
          <a:stretch/>
        </p:blipFill>
        <p:spPr>
          <a:xfrm>
            <a:off x="205092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train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523880" y="5373720"/>
            <a:ext cx="6432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billet aller –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billet aller- ret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www.frenchentree.com/french-language-learn/images/composter_un_billetinside.jpg"/>
          <p:cNvPicPr/>
          <p:nvPr/>
        </p:nvPicPr>
        <p:blipFill>
          <a:blip r:embed="rId2"/>
          <a:stretch/>
        </p:blipFill>
        <p:spPr>
          <a:xfrm>
            <a:off x="2124000" y="1916280"/>
            <a:ext cx="46958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04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En vill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523880" y="5373720"/>
            <a:ext cx="64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le 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DownloadedFile.jpeg"/>
          <p:cNvPicPr/>
          <p:nvPr/>
        </p:nvPicPr>
        <p:blipFill>
          <a:blip r:embed="rId2"/>
          <a:stretch/>
        </p:blipFill>
        <p:spPr>
          <a:xfrm>
            <a:off x="1447920" y="1143000"/>
            <a:ext cx="6476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35Z</dcterms:created>
  <dc:creator>Mr. Smith</dc:creator>
  <dc:description/>
  <dc:language>en-US</dc:language>
  <cp:lastModifiedBy>Viviane Grebert</cp:lastModifiedBy>
  <dcterms:modified xsi:type="dcterms:W3CDTF">2011-12-10T21:25:24Z</dcterms:modified>
  <cp:revision>86</cp:revision>
  <dc:subject/>
  <dc:title>La Touraine</dc:title>
</cp:coreProperties>
</file>